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3CD-8FEA-40B9-9A79-A52DE363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8BA-1B2C-4D66-B559-2B1AAD6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39C-8FEE-435B-B6B5-C7DB1FB4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3CA-DC6E-415C-94B8-37B5CB07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6DA9-4E03-4C29-B2E1-71CD2C5C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63AC-6534-424A-AAB8-EB471F5F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AA76-E2AE-4FFA-9184-CECC1D49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0F3E-C1E2-479C-AC52-49F9802A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97DD-EC02-44E5-9645-6867C3C4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FB85-F9CA-4429-8EFA-CA5C7890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BB35-05C0-40E9-8E0A-D17B20D7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3C6-1B81-47E2-8FE4-B45EFA08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B0E1-657D-4BD0-A843-ADB4E80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1AE7-DDDD-457E-802F-51560EDE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1CA6-A212-4320-9166-4B04E434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4535-5C0F-4A58-B4F1-168D96BC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DBA0-A89A-4C6F-BC6D-C4C23E4D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DCB-24F7-4874-A842-177C97CF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40E-AD1D-4A72-9379-D8AEEC0E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23A-D43A-4024-9211-78ECA086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827-7A7D-44A7-AD3D-2984F033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1C9-3D72-4C51-AF24-653BA7C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106-8EFB-4ED8-91DE-BF8AC9C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783-8B6A-409A-A9AF-08393FB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62BC-72F5-4B8D-AAFF-03899FA1ADD2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A291-FA70-4DA7-BB28-9E86FE7F051C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60720" y="0"/>
            <a:ext cx="5867280" cy="44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900"/>
            </a:b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هللي يا محبّة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00720" y="3952800"/>
            <a:ext cx="495288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فرحُنا بخور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8000" y="2971800"/>
            <a:ext cx="5905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حنانُنا نبيذ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ُنا قربان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24000" y="4365720"/>
            <a:ext cx="49532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000000"/>
                </a:solidFill>
                <a:latin typeface="Tahoma"/>
                <a:cs typeface="Akhbar MT"/>
              </a:rPr>
              <a:t>لقاؤنا صلاة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53145" t="0" r="0" b="45810"/>
          <a:stretch/>
        </p:blipFill>
        <p:spPr>
          <a:xfrm>
            <a:off x="4859280" y="0"/>
            <a:ext cx="4284720" cy="371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0" r="46860" b="45810"/>
          <a:stretch/>
        </p:blipFill>
        <p:spPr>
          <a:xfrm>
            <a:off x="0" y="0"/>
            <a:ext cx="4859280" cy="371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0" t="54190" r="49220" b="0"/>
          <a:stretch/>
        </p:blipFill>
        <p:spPr>
          <a:xfrm>
            <a:off x="0" y="371628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50784" t="54196" r="0" b="0"/>
          <a:stretch/>
        </p:blipFill>
        <p:spPr>
          <a:xfrm>
            <a:off x="4643280" y="3716280"/>
            <a:ext cx="4500720" cy="314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11840" y="620640"/>
            <a:ext cx="2432160" cy="155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رح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0"/>
            <a:ext cx="26276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نان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933720"/>
            <a:ext cx="2735280" cy="18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3573360"/>
            <a:ext cx="34196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قاؤ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2924280"/>
            <a:ext cx="461016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اسُنا محبّ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4941720"/>
            <a:ext cx="7993080" cy="17182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4941720"/>
            <a:ext cx="9180360" cy="19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الأرضُ تهلِّل والسماءُ تبار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1644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ما أجملَ أن يجتَمعَ الإخ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تحت سقفٍ واحدٍ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5213520"/>
            <a:ext cx="71154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ما أجملَ أن يجتَمعَ الإخ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59:11Z</dcterms:created>
  <dc:creator>Charbel Azar</dc:creator>
  <dc:description/>
  <dc:language>en-US</dc:language>
  <cp:lastModifiedBy>-</cp:lastModifiedBy>
  <dcterms:modified xsi:type="dcterms:W3CDTF">2003-01-16T16:23:58Z</dcterms:modified>
  <cp:revision>9</cp:revision>
  <dc:subject/>
  <dc:title>PowerPoint Presentation</dc:title>
</cp:coreProperties>
</file>